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78486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-10437840" y="-8429760"/>
            <a:ext cx="20875680" cy="182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624C-B4C5-40AD-ACC9-411718662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2400" y="1604520"/>
            <a:ext cx="706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2400" y="3682080"/>
            <a:ext cx="706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E80A-8CC7-4D1A-8854-6BCEC456C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2400" y="160452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11840" y="160452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2400" y="368208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011840" y="368208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38D5-5292-4F21-90EB-E34D6E779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2400" y="1604520"/>
            <a:ext cx="227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80640" y="1604520"/>
            <a:ext cx="227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68880" y="1604520"/>
            <a:ext cx="227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2400" y="3682080"/>
            <a:ext cx="227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780640" y="3682080"/>
            <a:ext cx="227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168880" y="3682080"/>
            <a:ext cx="227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CB52-F98B-4A11-B6D6-4B05E50F9F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92400" y="1604520"/>
            <a:ext cx="7062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8820-405F-4E1B-B5DD-CFB31933C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92400" y="1604520"/>
            <a:ext cx="70628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622D-CC37-4B72-B5AE-00DDDF916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2400" y="1604520"/>
            <a:ext cx="3446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011840" y="1604520"/>
            <a:ext cx="3446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8C9B-E683-4985-A475-B72F89343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5E13-4ACC-480F-9B84-B1D8638DF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2400" y="273600"/>
            <a:ext cx="70628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EFCC-8D24-4564-AA64-3CAE58560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2400" y="160452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1840" y="1604520"/>
            <a:ext cx="3446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92400" y="368208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9A67-DB59-461A-A508-1C4F89A34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2400" y="1604520"/>
            <a:ext cx="3446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11840" y="160452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011840" y="368208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3418-196F-40D6-BD86-635286CE7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2400" y="273600"/>
            <a:ext cx="70628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2400" y="160452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11840" y="1604520"/>
            <a:ext cx="3446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2400" y="3682080"/>
            <a:ext cx="70628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75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9B77-E148-44B6-832B-8BA343C5E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588960" y="6248520"/>
            <a:ext cx="163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Text Box 5"/>
          <p:cNvSpPr/>
          <p:nvPr/>
        </p:nvSpPr>
        <p:spPr>
          <a:xfrm>
            <a:off x="2681280" y="6248520"/>
            <a:ext cx="2486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5624280" y="6248160"/>
            <a:ext cx="162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5B3886-120B-468B-AEE6-6AEBBC4E5A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01760" y="2781360"/>
            <a:ext cx="655164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QUIVALENCIA DEL PLAN CONTABLE GUBERNAMEN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2009 - 200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1698480" y="5229360"/>
            <a:ext cx="5886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492360" y="5133960"/>
            <a:ext cx="4284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JORGE CHICOMA RAMO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irección Nacional de Contabilidad Pública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Lima, Noviembre de 2008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" name="Group 6"/>
          <p:cNvGrpSpPr/>
          <p:nvPr/>
        </p:nvGrpSpPr>
        <p:grpSpPr>
          <a:xfrm>
            <a:off x="395280" y="836640"/>
            <a:ext cx="5472000" cy="936720"/>
            <a:chOff x="395280" y="836640"/>
            <a:chExt cx="5472000" cy="936720"/>
          </a:xfrm>
        </p:grpSpPr>
        <p:grpSp>
          <p:nvGrpSpPr>
            <p:cNvPr id="51" name="Group 7"/>
            <p:cNvGrpSpPr/>
            <p:nvPr/>
          </p:nvGrpSpPr>
          <p:grpSpPr>
            <a:xfrm>
              <a:off x="395280" y="836640"/>
              <a:ext cx="701640" cy="936720"/>
              <a:chOff x="395280" y="836640"/>
              <a:chExt cx="701640" cy="936720"/>
            </a:xfrm>
          </p:grpSpPr>
          <p:pic>
            <p:nvPicPr>
              <p:cNvPr id="52" name="Picture 8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395280" y="989640"/>
                <a:ext cx="70164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WordArt 9"/>
              <p:cNvSpPr txBox="1"/>
              <p:nvPr/>
            </p:nvSpPr>
            <p:spPr>
              <a:xfrm>
                <a:off x="461520" y="836640"/>
                <a:ext cx="530280" cy="30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lnSpc>
                    <a:spcPct val="10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54" name="Rectangle 10"/>
            <p:cNvSpPr/>
            <p:nvPr/>
          </p:nvSpPr>
          <p:spPr>
            <a:xfrm>
              <a:off x="3995640" y="863640"/>
              <a:ext cx="1871640" cy="90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7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Vice Ministro</a:t>
              </a: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7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de Hacienda</a:t>
              </a: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2124000" y="863640"/>
              <a:ext cx="1871640" cy="909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7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Ministerio </a:t>
              </a: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7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de Economía y Finanzas</a:t>
              </a: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1116000" y="863640"/>
              <a:ext cx="1008000" cy="9097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700" spc="-1" strike="noStrike">
                  <a:solidFill>
                    <a:srgbClr val="ffffff"/>
                  </a:solidFill>
                  <a:latin typeface="Times New Roman"/>
                  <a:ea typeface="Calibri"/>
                </a:rPr>
                <a:t>PERÚ</a:t>
              </a:r>
              <a:endParaRPr b="0" lang="en-US" sz="1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3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76406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9" descr=""/>
          <p:cNvPicPr/>
          <p:nvPr/>
        </p:nvPicPr>
        <p:blipFill>
          <a:blip r:embed="rId1"/>
          <a:stretch/>
        </p:blipFill>
        <p:spPr>
          <a:xfrm>
            <a:off x="100080" y="836640"/>
            <a:ext cx="7640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08000" y="2160720"/>
            <a:ext cx="7635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"/>
          <p:cNvPicPr/>
          <p:nvPr/>
        </p:nvPicPr>
        <p:blipFill>
          <a:blip r:embed="rId1"/>
          <a:stretch/>
        </p:blipFill>
        <p:spPr>
          <a:xfrm>
            <a:off x="108000" y="1227240"/>
            <a:ext cx="7661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6" descr=""/>
          <p:cNvPicPr/>
          <p:nvPr/>
        </p:nvPicPr>
        <p:blipFill>
          <a:blip r:embed="rId1"/>
          <a:stretch/>
        </p:blipFill>
        <p:spPr>
          <a:xfrm>
            <a:off x="108000" y="1292400"/>
            <a:ext cx="76359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4" descr=""/>
          <p:cNvPicPr/>
          <p:nvPr/>
        </p:nvPicPr>
        <p:blipFill>
          <a:blip r:embed="rId1"/>
          <a:stretch/>
        </p:blipFill>
        <p:spPr>
          <a:xfrm>
            <a:off x="152280" y="797040"/>
            <a:ext cx="7588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"/>
          <p:cNvPicPr/>
          <p:nvPr/>
        </p:nvPicPr>
        <p:blipFill>
          <a:blip r:embed="rId1"/>
          <a:stretch/>
        </p:blipFill>
        <p:spPr>
          <a:xfrm>
            <a:off x="108000" y="1154160"/>
            <a:ext cx="75880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2335320" y="2708280"/>
            <a:ext cx="302868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GRACIA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639" descr=""/>
          <p:cNvPicPr/>
          <p:nvPr/>
        </p:nvPicPr>
        <p:blipFill>
          <a:blip r:embed="rId1"/>
          <a:stretch/>
        </p:blipFill>
        <p:spPr>
          <a:xfrm>
            <a:off x="173160" y="836640"/>
            <a:ext cx="749592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6" descr=""/>
          <p:cNvPicPr/>
          <p:nvPr/>
        </p:nvPicPr>
        <p:blipFill>
          <a:blip r:embed="rId1"/>
          <a:stretch/>
        </p:blipFill>
        <p:spPr>
          <a:xfrm>
            <a:off x="28440" y="907920"/>
            <a:ext cx="7820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71" descr=""/>
          <p:cNvPicPr/>
          <p:nvPr/>
        </p:nvPicPr>
        <p:blipFill>
          <a:blip r:embed="rId1"/>
          <a:stretch/>
        </p:blipFill>
        <p:spPr>
          <a:xfrm>
            <a:off x="-42840" y="463680"/>
            <a:ext cx="792792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763596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0" descr=""/>
          <p:cNvPicPr/>
          <p:nvPr/>
        </p:nvPicPr>
        <p:blipFill>
          <a:blip r:embed="rId1"/>
          <a:stretch/>
        </p:blipFill>
        <p:spPr>
          <a:xfrm>
            <a:off x="0" y="69228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108000" y="1866960"/>
            <a:ext cx="76359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108000" y="1965240"/>
            <a:ext cx="763596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283" descr=""/>
          <p:cNvPicPr/>
          <p:nvPr/>
        </p:nvPicPr>
        <p:blipFill>
          <a:blip r:embed="rId1"/>
          <a:stretch/>
        </p:blipFill>
        <p:spPr>
          <a:xfrm>
            <a:off x="108000" y="1222200"/>
            <a:ext cx="76359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f</cp:lastModifiedBy>
  <dcterms:modified xsi:type="dcterms:W3CDTF">2008-12-09T20:53:07Z</dcterms:modified>
  <cp:revision>49</cp:revision>
  <dc:subject/>
  <dc:title>Diapositiva 1</dc:title>
</cp:coreProperties>
</file>